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A05AE-5B28-4208-869E-8632A80D3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CDBDC-4ABD-46B8-A093-C8A1223B6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8183F-2D9F-4DFF-A67D-B0E47A28C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CE5B6-6817-45F8-9459-3BFC6E12E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9F66F-6449-4CCE-84DC-897B67E1E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056C6-00AB-44F9-B91D-A690548C7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A81F8-45AA-4FF2-9CAF-9F747B269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B7FDC-7D6E-4152-8CB3-B079879B0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D076A-9A90-4CCE-AD98-4692EA80F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DAD10-E1B2-41EC-B323-82832A2E0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D2DAA-E6B0-4E4A-95A9-628D4FFA6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273AC-42A2-44AE-B117-7D5E5FBBC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0AC61-F530-42AD-9E2E-078D5A514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61006-C97D-4808-B14A-1A023CB32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DC6E5-1AE0-4E2B-985C-F62A1113C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E13D4-4DC2-48D9-83BE-89DE0352B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5BE52-D8AD-4E42-8107-07132C9BD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06149-0008-4DD0-AE5B-A7C8C2CC1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11145-616F-428D-A572-73ECC5508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04B0A-E0AC-4C5F-B93D-9E6DE6030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06C22-95A4-4C6E-819B-42CEFEB72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6EE4B-CF8D-4269-BE08-16CF91911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F7D41-0D01-4FE5-B5ED-7AD252B0F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5A08A-A9C9-4E22-864A-22145F783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7A65A-71FC-4315-BEFF-3524FF3090CF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CCA25-5181-4E81-B86E-EE1116783A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ormatShape" hidden="1"/>
          <p:cNvSpPr/>
          <p:nvPr/>
        </p:nvSpPr>
        <p:spPr>
          <a:xfrm>
            <a:off x="-1333440" y="1701720"/>
            <a:ext cx="1181160" cy="825480"/>
          </a:xfrm>
          <a:prstGeom prst="rect">
            <a:avLst/>
          </a:prstGeom>
          <a:noFill/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99840" y="152352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1EC10-23DD-4D91-A456-2C081F59C532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96664-65E6-4026-AA8F-0B54BF0923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99840" y="152352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ETSI and Lawful Interception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682280" y="4076280"/>
            <a:ext cx="5861160" cy="12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bin Gap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ir TC Sec WG L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37D1F-1938-49E0-9C7B-FD579EF1A05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P Rep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escribes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ructures probl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mmon understan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ay point to solu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6FFFC-6A4C-4146-9524-73292B8D03F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Data Hando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2560" y="2057400"/>
          <a:ext cx="7772400" cy="43974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2560" y="2057400"/>
                    <a:ext cx="7772400" cy="439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4A15D-3AAE-4264-8924-5ACBB862517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y standardis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rket avail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ow c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peed to mark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ow hass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ffici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14A13-D587-471C-B837-2B7FFAEC130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layers in ETS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per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nufactur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M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gulators &amp; Minis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aw Enforcement Ag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40A6D-6D48-40B0-9F33-EF7E360DCFC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at is ETSI doing for dat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M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IPH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ulti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cludes vo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ther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rket dri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811C5-E9F7-4CF2-85EB-1AC7C97876F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ere is the market goi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ull steam ah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ere the demand 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and more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etail not cl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rowth will contin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52A4D-63B2-4363-8093-8E4D36D003F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he Fu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pport ETS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dopt ETSI stand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heap, for every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erocious pace of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very hard to st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44C3D-0471-420C-9CB7-0728DAD4101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ore inf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eb s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ww.etsi.or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ub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ttp://webapp.etsi.org/pda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G L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ttp://www.etsi.org/SEC/sec_li.ht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27DE8-976E-46B9-B498-167E26194B4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bout ETS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uropean Telecommunications Standards Institu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“standards factory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rket driv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road industry particip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uropean and Global play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3FB7E-E66B-4770-82F0-8C08FA5B1A3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STN Achiev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echnical Handover Interf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S 201 671 v1 19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S 201 671 v2 2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lus supporting docu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A Requirements (ETR 33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etwork Elements (ES 201 158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8978E-3218-4CE7-9ED7-8BB495574C8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 Major Suc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arted with 17th January 1995 Re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illed out” LEA requirements 199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etwork elements 199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andover Interface 19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vised Handover Interface 20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0A1B9-4029-45D5-88AF-40736408276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ructure of Hando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dminist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tercept related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ntent of commun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pecifies the boundary on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238B4-60E4-4460-B17F-70EDBEA24ED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6500880" y="5829480"/>
            <a:ext cx="2119320" cy="84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944800" y="1219320"/>
          <a:ext cx="6192720" cy="54529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944800" y="1219320"/>
                    <a:ext cx="6192720" cy="545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430200" y="3967200"/>
            <a:ext cx="2286000" cy="243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P = Access provi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HI = Handover interface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IF = internal intercepting function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NI = internal network interface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LEMF = Law enforcement monitoring facility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F = Mediation function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NWO = Network operator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vP = Service provi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1EB75-0E66-4B38-B070-916DEDA844A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doption of ES 201 67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nufactur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uropean Coun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orld-w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BF00A-C539-4A34-B966-38D35E51FD0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obi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SM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S 101 5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SM Intern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S 101 509 (03.3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lso TET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N 301 0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613DF-DC6C-4F72-B6B7-BEC41F4DF1C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Data Achiev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PRS Handover Interf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R 101 8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S 201 671 v2 2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PRS Intern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nex B of TS 101 5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port “Issues on IP Interception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R 101 94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4C4FE-B41A-48E3-9E73-EF0B6AE75B3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12T15:55:13Z</dcterms:created>
  <dc:creator>Sonia Coleman</dc:creator>
  <dc:description/>
  <dc:language>en-US</dc:language>
  <cp:lastModifiedBy>infosys</cp:lastModifiedBy>
  <dcterms:modified xsi:type="dcterms:W3CDTF">2001-06-04T05:58:49Z</dcterms:modified>
  <cp:revision>6</cp:revision>
  <dc:subject/>
  <dc:title>Title</dc:title>
</cp:coreProperties>
</file>