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arbrake.wav" ContentType="audio/x-wav"/>
  <Override PartName="/ppt/media/The%20Microsoft%20Sound.wav" ContentType="audio/x-wav"/>
  <Override PartName="/ppt/media/image2.png" ContentType="image/png"/>
  <Override PartName="/ppt/media/image3.png" ContentType="image/png"/>
  <Override PartName="/ppt/media/clap.wav" ContentType="audio/x-wav"/>
  <Override PartName="/ppt/media/driveby.wav" ContentType="audio/x-wav"/>
  <Override PartName="/ppt/media/image4.jpeg" ContentType="image/jpeg"/>
  <Override PartName="/ppt/media/image5.jpeg" ContentType="image/jpeg"/>
  <Override PartName="/ppt/media/image6.jpeg" ContentType="image/jpeg"/>
  <Override PartName="/ppt/media/LOGOFF.WAV" ContentType="audio/x-wav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  <p:custShowLst>
    <p:custShow name="Custom Show 1" id="0">
      <p:sldLst>
        <p:sld r:id="rId3"/>
        <p:sld r:id="rId5"/>
        <p:sld r:id="rId6"/>
        <p:sld r:id="rId7"/>
        <p:sld r:id="rId8"/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5222-A81D-40B0-B7A1-1D33B1CA4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DF4F-614D-44BA-A061-31275D751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520E-5779-45B0-A51E-16C59891B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111D-D616-4D82-95C5-52DA56677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0508-7318-4630-8EA9-40AEAFE2F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8157-D7F9-4A4A-B727-A0ECD5744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7B60-3A25-44C2-8977-8A3D5EEF7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58AD-A9A4-4589-8967-9C318FA27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7498-A1DF-4B3B-9912-434672850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EAEA-17DD-4D4C-AE5B-B1B7D3DD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45F6-42BA-4E10-8DD7-937915BC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D1F5-084C-4C9E-818E-6B5DBA00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DF745-1DC4-41CB-B5DA-FB260CAE71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The%20Microsoft%20Sound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LOGOFF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" descr=""/>
          <p:cNvPicPr/>
          <p:nvPr/>
        </p:nvPicPr>
        <p:blipFill>
          <a:blip r:embed="rId1"/>
          <a:stretch/>
        </p:blipFill>
        <p:spPr>
          <a:xfrm>
            <a:off x="880920" y="704880"/>
            <a:ext cx="7380360" cy="5448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random/>
    <p:sndAc>
      <p:stSnd>
        <p:snd r:embed="rId2" name="The%20Microsoft%20Sound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b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5280" cy="56865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5280" cy="56865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  <p:sndAc>
      <p:stSnd>
        <p:snd r:embed="rId2" name="driveby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d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6720" cy="56865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random/>
    <p:sndAc>
      <p:stSnd>
        <p:snd r:embed="rId2" name="carbrak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e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6720" cy="56865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  <p:sndAc>
      <p:stSnd>
        <p:snd r:embed="rId2" name="clap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f" descr=""/>
          <p:cNvPicPr/>
          <p:nvPr/>
        </p:nvPicPr>
        <p:blipFill>
          <a:blip r:embed="rId1"/>
          <a:stretch/>
        </p:blipFill>
        <p:spPr>
          <a:xfrm>
            <a:off x="507960" y="376200"/>
            <a:ext cx="8126280" cy="610380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  <p:sndAc>
      <p:stSnd>
        <p:snd r:embed="rId2" name="LOGOFF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g" descr=""/>
          <p:cNvPicPr/>
          <p:nvPr/>
        </p:nvPicPr>
        <p:blipFill>
          <a:blip r:embed="rId1"/>
          <a:stretch/>
        </p:blipFill>
        <p:spPr>
          <a:xfrm>
            <a:off x="142920" y="160200"/>
            <a:ext cx="8858160" cy="653760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8T23:56:44Z</dcterms:created>
  <dc:creator>DirtySlesk</dc:creator>
  <dc:description/>
  <dc:language>en-US</dc:language>
  <cp:lastModifiedBy>DirtySlesk</cp:lastModifiedBy>
  <dcterms:modified xsi:type="dcterms:W3CDTF">2000-10-04T04:47:42Z</dcterms:modified>
  <cp:revision>2</cp:revision>
  <dc:subject/>
  <dc:title> </dc:title>
</cp:coreProperties>
</file>