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horse.wav" ContentType="audio/x-wav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  <p:custShowLst>
    <p:custShow name="Uusi mukautettu esitys" id="0">
      <p:sldLst>
        <p:sld r:id="rId3"/>
        <p:sld r:id="rId4"/>
        <p:sld r:id="rId5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hor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0" spc="-1" strike="noStrike">
                <a:solidFill>
                  <a:srgbClr val="800000"/>
                </a:solidFill>
                <a:latin typeface="URW Chancery L"/>
              </a:rPr>
              <a:t>Pihtisoft  Productions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Times New Roman"/>
              </a:rPr>
              <a:t>Pihtisoft Hardwa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39800" y="2170080"/>
            <a:ext cx="4200480" cy="4624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C machines manufacturing, On-Site also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odore 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Greetings to all red-green blind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  <p:sndAc>
      <p:stSnd>
        <p:snd r:embed="rId3" name="hor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77560"/>
            <a:ext cx="1008072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306360" indent="-2296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ff"/>
                </a:solidFill>
                <a:latin typeface="Times New Roman"/>
              </a:rPr>
              <a:t>Various Commodore titles produced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veral fine and clear presentations made in Powerpoint and ooimpress (often referenced as "this is the WAY to do them"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766880"/>
            <a:ext cx="6875640" cy="57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436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ihtisoft Seriousness part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98480" y="3259080"/>
            <a:ext cx="56818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d you notice that last time it scrolled somewhat wrong?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the method NOT used with Pihtisoft programs normally... One Big Fat Monopoly supports that in its whinny web browser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y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RANO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8080" y="2216160"/>
            <a:ext cx="502740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80"/>
                </a:solidFill>
                <a:latin typeface="Times New Roman"/>
              </a:rPr>
              <a:t>Greetings GO T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485640"/>
            <a:ext cx="8607240" cy="70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Palatino"/>
              </a:rPr>
              <a:t>Viznut/PW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Palatino"/>
              </a:rPr>
              <a:t>All Fine Girls @ Altpar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Palatino"/>
              </a:rPr>
              <a:t>All Commodore Fans in the Wor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Palatino"/>
              </a:rPr>
              <a:t>All forthcoming Pihtisoft custo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Palatino"/>
              </a:rPr>
              <a:t>All humorous people who laughed at this presentat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