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1.jpeg" ContentType="image/jpeg"/>
  <Override PartName="/ppt/media/image35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36B5-424A-47C0-A4D9-B0DE8CC8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01C-D631-47F0-B990-A032D2FC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CFF0-35D6-4D4F-9488-EB07B17F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6AB6-F361-4FBA-9A14-93752A1E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3FD3-3AA3-4326-9487-5EB4E85B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8FDA-71EE-4509-92C8-C7726AEE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0B85-592B-47CC-93D3-478DDF55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30AD-0B06-4979-94D1-9B2AF445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A482-7CE2-4F4A-985A-FF20A4DC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5A64-CB77-4184-9A7B-E0C31152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B16F-3100-4CE9-B92F-12DBD652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63FA-5527-4060-B56F-AB6E6318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9B0E9-7054-4F0F-95A1-A266BFF0ED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Narrow"/>
              </a:rPr>
              <a:t>*Série Dark’n’Luke*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0920" y="176328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alchimie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8353440" cy="74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08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276120"/>
            <a:ext cx="813744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986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9120" y="973080"/>
            <a:ext cx="957924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160" y="900000"/>
            <a:ext cx="98218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360" y="1079640"/>
            <a:ext cx="100962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44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1120" y="138240"/>
            <a:ext cx="8859600" cy="741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640" y="34920"/>
            <a:ext cx="885996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912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6000" y="74520"/>
            <a:ext cx="950436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04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iqueau blaise</cp:lastModifiedBy>
  <dcterms:modified xsi:type="dcterms:W3CDTF">2006-10-22T17:11:57Z</dcterms:modified>
  <cp:revision>4</cp:revision>
  <dc:subject/>
  <dc:title>Diapositive 1</dc:title>
</cp:coreProperties>
</file>